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193-476C-48C2-B0E5-5345266A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891-E1DE-44B3-B5CB-415B757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49A-3669-4A31-8703-6A9BA67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226-597F-48CE-999E-72742E6E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F0-661A-476E-9256-A344F382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472-D9A0-4112-8DE2-114875E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557-45C5-4930-864E-5E08A3E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068-1608-4009-A0EA-EBAF341D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F3D-C2A7-47DB-A926-3837CFF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B59-FFB0-4556-91FC-3DF7BE6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C0C-4D60-42C5-9CF7-68EFF37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C25-ABCF-4C53-93A6-88C614B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F7F-90E0-431A-A45D-F35546CA562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08:37Z</dcterms:created>
  <dc:creator>admin2</dc:creator>
  <dc:description/>
  <dc:language>en-US</dc:language>
  <cp:lastModifiedBy>admin2</cp:lastModifiedBy>
  <dcterms:modified xsi:type="dcterms:W3CDTF">2012-02-11T12:14:14Z</dcterms:modified>
  <cp:revision>1</cp:revision>
  <dc:subject/>
  <dc:title>Diapozitivul 1</dc:title>
</cp:coreProperties>
</file>